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32A-804D-447D-9E30-662819C2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DCF-D051-4B67-845B-EAC9501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1E5-10ED-42AC-93ED-A43B459A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CD0-4826-4DBC-B9DE-D420B057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8B6-A301-466D-BCC6-88A6D5C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A9E-53BD-4922-B88B-2094D760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8CF-B393-41FD-8614-7700F9A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BA4-37E4-4DCF-9302-AC68F3A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71E-53DC-45A6-8DEA-2ED05F9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A90-89E6-4FED-B192-8B36443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308-789D-43B7-B01F-D047E409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57E-2ADE-458E-A2CD-50E08B0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1AD-A927-4D5A-88EC-E4FE1F61B1D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700280"/>
            <a:ext cx="8893080" cy="515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421000"/>
            <a:ext cx="853452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42840"/>
            <a:ext cx="201636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ισαγωγή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όχος λογισμικ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720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9440" y="765000"/>
            <a:ext cx="1224000" cy="576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0792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138600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630440"/>
            <a:ext cx="71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00720" y="134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184464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σωτερ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979280" y="23493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755640" y="256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ρατιωτικές παρεμβά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1772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1979280" y="3068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755640" y="32846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ίνημα 19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1979280" y="3789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755640" y="400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΄Β Ελληνική δημοκρατ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/>
          <p:nvPr/>
        </p:nvCxnSpPr>
        <p:spPr>
          <a:xfrm>
            <a:off x="1979280" y="450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5640" y="47260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κτατορία Θ. Πάγκα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/>
          <p:nvPr/>
        </p:nvCxnSpPr>
        <p:spPr>
          <a:xfrm>
            <a:off x="1979280" y="52304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755640" y="54468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ακυβέρνηση Ελ.Βενιζέ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1979280" y="594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55640" y="6165720"/>
            <a:ext cx="2449440" cy="50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Δικτατορία Μεταξ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165720"/>
            <a:ext cx="1154160" cy="5050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σ.Πολιτ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5" idx="3"/>
            <a:endCxn id="66" idx="1"/>
          </p:cNvCxnSpPr>
          <p:nvPr/>
        </p:nvCxnSpPr>
        <p:spPr>
          <a:xfrm>
            <a:off x="3205080" y="6418080"/>
            <a:ext cx="359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4140360" y="2060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55640" y="20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184464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ωτερ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6372000" y="234936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5148360" y="256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υνθήκη Λωζάνν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/>
          <p:nvPr/>
        </p:nvCxnSpPr>
        <p:spPr>
          <a:xfrm>
            <a:off x="6372000" y="306828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5148360" y="32846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οβουλγαρικό επεισόδι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6372000" y="37890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5148360" y="40053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οτουρκική συννενόησ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6372000" y="450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5148360" y="47260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λλάδα σε βρετανικό δίκτυ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/>
          <p:nvPr/>
        </p:nvCxnSpPr>
        <p:spPr>
          <a:xfrm>
            <a:off x="6372000" y="52304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148360" y="54468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ος ελληνοϊταλικό πόλεμ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>
            <a:off x="6372000" y="59497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796000" y="6165720"/>
            <a:ext cx="1154160" cy="5050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.Πολιτ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948000" y="206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08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48000" y="6453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2060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187280" y="1125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1125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3206880"/>
            <a:ext cx="1655640" cy="1736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92280"/>
            <a:ext cx="9144000" cy="587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84280"/>
            <a:ext cx="9144000" cy="4248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0492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547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197928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75564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οσφυγικός εποικισμό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664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197928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75564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Πρόσφυγες στην ελληνική κοινωνί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197928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75564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περγίες και συγκρούσει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97928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5564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στικός εκσυγχρονισμό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197928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755640" y="436572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υγκυρία ‘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1979280" y="486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72436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630036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07672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γροτική μεταρρύθμι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630036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07672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Πρόσφυγες και πρόνοι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30036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07672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Αναδιοργάνωση δημ/κού τομέα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630036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07672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ξέλιξη εμπορί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630036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5076720" y="436572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ική κρίση ‘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6300360" y="486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372360" y="547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272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508644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5600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5600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98100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10200" y="508644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"/>
              </a:rPr>
              <a:t>Ελληνική οικονομία το ’36-’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18560" y="508644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ικονομ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9" idx="3"/>
            <a:endCxn id="130" idx="1"/>
          </p:cNvCxnSpPr>
          <p:nvPr/>
        </p:nvCxnSpPr>
        <p:spPr>
          <a:xfrm>
            <a:off x="7559280" y="53384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8494560" y="98100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910560" y="98100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708280"/>
            <a:ext cx="1655640" cy="1736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47640"/>
            <a:ext cx="9144000" cy="515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341360"/>
            <a:ext cx="9144000" cy="4248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333360"/>
            <a:ext cx="22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763560"/>
            <a:ext cx="115416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54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4500360" y="126828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276720" y="148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Νέα καλλιτεχνικά ρεύματ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6640"/>
            <a:ext cx="11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/>
          <p:nvPr/>
        </p:nvCxnSpPr>
        <p:spPr>
          <a:xfrm>
            <a:off x="4500360" y="198720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276720" y="220356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Χαρακτική και γλυπτ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00360" y="27079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276720" y="292428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ολιτιστική ζω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4500360" y="342864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276720" y="3645000"/>
            <a:ext cx="244944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εγονός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αθεστώς 4ης Αυγούστ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4500360" y="414936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0" y="16272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(κτ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4365720"/>
            <a:ext cx="1154160" cy="504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76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981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508464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65000"/>
            <a:ext cx="9144000" cy="554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989000"/>
            <a:ext cx="9144000" cy="136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278136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58136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 υποδηλώνει τη δυνατότητα του χρήστη να μεταβαίνει από όλες τις σελίδες που περιλαμβάνονται μέσα σε αυτό στις εξής κατηγορίε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836640"/>
            <a:ext cx="115380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7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6200" y="547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8748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1765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404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λ. Βενιζέ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584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Ι. Μεταξά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1480" y="2060640"/>
            <a:ext cx="11541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ρόσωπο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Θ. Πάγκα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1844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040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8800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260280"/>
            <a:ext cx="23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(η συνέχεια στο επό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645000"/>
            <a:ext cx="115416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4365720"/>
            <a:ext cx="11541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14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4940280"/>
            <a:ext cx="1152720" cy="649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940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516720" y="493992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522936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940360" y="522936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5734080"/>
            <a:ext cx="1154160" cy="503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ελικ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35280" y="-36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028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197000"/>
            <a:ext cx="2448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το βέλος αυτό οδηγεί στ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6524640"/>
            <a:ext cx="64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 εμφανίζεται σε όλα τα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s 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ι στα προηγούμεν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907920"/>
            <a:ext cx="8675640" cy="5545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916280"/>
            <a:ext cx="8244000" cy="172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2971800"/>
            <a:ext cx="5327640" cy="459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πράσινο ορθογώνιο υποδηλώνει τη δυνατότητα του χρήστη να μεταβαίνει από όλες τις σελίδες που περιέχονται σε αυτό στο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1015920"/>
            <a:ext cx="115380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έ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92280"/>
            <a:ext cx="47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69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31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7656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Arial"/>
              </a:rPr>
              <a:t>Επίπεδο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2060640"/>
            <a:ext cx="115416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Λόγος Ε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Βενιζέλ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1844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716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3789360"/>
            <a:ext cx="1154160" cy="647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510080"/>
            <a:ext cx="11541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t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4292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5084640"/>
            <a:ext cx="1152720" cy="649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5084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516720" y="5084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537372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940360" y="53737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0360" y="5878440"/>
            <a:ext cx="1154160" cy="5032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ελικ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4581360"/>
            <a:ext cx="431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>
                <a:solidFill>
                  <a:srgbClr val="000000"/>
                </a:solidFill>
                <a:latin typeface="Arial"/>
              </a:rPr>
              <a:t>Το γαλάζιο ορθογώνιο υποδηλώνει τη δυνατότητα του χρήστη να μεταβαίνει από όλες τις σελίδες που περιλαμβάνονται μέσα σε αυτό στις εξής κατηγορίε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08000" y="-36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04640"/>
            <a:ext cx="244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συνέχεια από το προηγούμεν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l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197000"/>
            <a:ext cx="2448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1000" spc="-1" strike="noStrike">
                <a:solidFill>
                  <a:srgbClr val="000000"/>
                </a:solidFill>
                <a:latin typeface="Arial"/>
              </a:rPr>
              <a:t>το βέλος αυτό οδηγεί στο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e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060640"/>
            <a:ext cx="115380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μερολόγι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Ι. Μεταξ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060640"/>
            <a:ext cx="129852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Πηγή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Συνθήκ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ης Λωζάνν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23280" y="586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2:59:40Z</dcterms:created>
  <dc:creator>Μυροφόρα Ραφαηλίδου ΑΜ 5000110-Ειρήνη Γάκη ΑΜ 5000018</dc:creator>
  <dc:description/>
  <dc:language>en-US</dc:language>
  <cp:lastModifiedBy>Konstantina Vassilopoulou</cp:lastModifiedBy>
  <dcterms:modified xsi:type="dcterms:W3CDTF">2006-12-27T19:43:41Z</dcterms:modified>
  <cp:revision>77</cp:revision>
  <dc:subject>Διαδίκτυο και Εκπαίδευση-Θέμα: Ο Μεσοπόλεμος</dc:subject>
  <dc:title>Flowchart</dc:title>
</cp:coreProperties>
</file>