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032-24DC-4411-A773-D433D3BD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E3A-00BA-4F84-88E8-F77C5111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3E5-797B-4447-B59E-C8EE7392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F2C-022C-45EA-9CDC-1778773E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6F5-2BDE-48D5-9BCC-364ECE85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C73-6337-4F32-B290-C6994CA6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2EE-2EB0-419E-856A-8C9196F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C56-2F17-4789-8715-992C24A1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65F-6FD5-4FD1-B5AD-DF11C1DE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42B-1E91-456B-A832-CB3514A8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2B3-258D-4D64-96E2-A84DC61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51E-E86F-4144-A118-16896C8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ACB-2039-4D0E-8644-E9E0308C83A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700280"/>
            <a:ext cx="8893080" cy="515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421000"/>
            <a:ext cx="853452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42840"/>
            <a:ext cx="201636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ισαγωγή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όχος λογισμικ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720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9440" y="765000"/>
            <a:ext cx="1224000" cy="576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0792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138600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630440"/>
            <a:ext cx="71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00720" y="134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184464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σωτερ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λι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979280" y="23493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55640" y="256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ρατιωτικές παρεμβάσει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1772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>
            <a:off x="1979280" y="3068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755640" y="328464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ίνημα 19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1979280" y="37890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755640" y="400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΄Β Ελληνική δημοκρατ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1979280" y="450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5640" y="47260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Δικτατορία Θ. Πάγκαλ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/>
          <p:nvPr/>
        </p:nvCxnSpPr>
        <p:spPr>
          <a:xfrm>
            <a:off x="1979280" y="52304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755640" y="54468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Διακυβέρνηση Ελ.Βενιζέλ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1979280" y="594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55640" y="6165720"/>
            <a:ext cx="244944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Δικτατορία Μεταξ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165720"/>
            <a:ext cx="1154160" cy="5050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σ.Πολιτ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5" idx="3"/>
            <a:endCxn id="66" idx="1"/>
          </p:cNvCxnSpPr>
          <p:nvPr/>
        </p:nvCxnSpPr>
        <p:spPr>
          <a:xfrm>
            <a:off x="3205080" y="6418080"/>
            <a:ext cx="359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140360" y="2060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55640" y="20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184464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ξωτερ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λι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6372000" y="23493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5148360" y="256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υνθήκη Λωζάνν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/>
          <p:nvPr/>
        </p:nvCxnSpPr>
        <p:spPr>
          <a:xfrm>
            <a:off x="6372000" y="3068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5148360" y="328464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Ελληνοβουλγαρικό επεισόδι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6372000" y="37890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5148360" y="400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Ελληνοτουρκική συννενόησ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6372000" y="450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5148360" y="47260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λλάδα σε βρετανικό δίκτυ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6372000" y="52304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148360" y="54468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ος ελληνοϊταλικό πόλεμ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/>
          <p:nvPr/>
        </p:nvCxnSpPr>
        <p:spPr>
          <a:xfrm>
            <a:off x="6372000" y="594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796000" y="6165720"/>
            <a:ext cx="1154160" cy="5050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ξ.Πολιτ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948000" y="206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082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(κτ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48000" y="645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2060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187280" y="1125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1125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3206880"/>
            <a:ext cx="1655640" cy="1736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92280"/>
            <a:ext cx="9144000" cy="587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84280"/>
            <a:ext cx="9144000" cy="4248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0492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76356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547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1979280" y="12682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755640" y="148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οσφυγικός εποικισμό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1979280" y="19872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755640" y="22035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Πρόσφυγες στην ελληνική κοινωνί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1979280" y="27079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755640" y="292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περγίες και συγκρούσει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979280" y="342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55640" y="36450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στικός εκσυγχρονισμό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1979280" y="4149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755640" y="436572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υγκυρία ‘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1979280" y="486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724360" y="76356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κονομ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6300360" y="12682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076720" y="148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γροτική μεταρρύθμι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6300360" y="19872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076720" y="22035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Πρόσφυγες και πρόνοι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6300360" y="27079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076720" y="292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Αναδιοργάνωση δημ/κού τομέ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6300360" y="342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076720" y="36450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ξέλιξη εμπορί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6300360" y="4149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6720" y="436572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κονομική κρίση ‘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6300360" y="486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372360" y="547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272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(κτ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028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5086440"/>
            <a:ext cx="1154160" cy="504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5600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5600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10200" y="508644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Ελληνική οικονομία το ’36-’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18560" y="5086440"/>
            <a:ext cx="1154160" cy="504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κονομ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9" idx="3"/>
            <a:endCxn id="130" idx="1"/>
          </p:cNvCxnSpPr>
          <p:nvPr/>
        </p:nvCxnSpPr>
        <p:spPr>
          <a:xfrm>
            <a:off x="7559280" y="533844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8494560" y="98100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910560" y="98100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708280"/>
            <a:ext cx="1655640" cy="1736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47640"/>
            <a:ext cx="9144000" cy="515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341360"/>
            <a:ext cx="9144000" cy="4248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3336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76356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54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4500360" y="12682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276720" y="148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Νέα καλλιτεχνικά ρεύματ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3664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/>
          <p:nvPr/>
        </p:nvCxnSpPr>
        <p:spPr>
          <a:xfrm>
            <a:off x="4500360" y="19872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276720" y="22035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Χαρακτική και γλυπ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00360" y="27079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276720" y="292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λιτιστική ζω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4500360" y="342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276720" y="36450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αθεστώς 4ης Αυγούστ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4500360" y="4149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0" y="16272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(κτ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6028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4365720"/>
            <a:ext cx="1154160" cy="504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07672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76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981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5084640"/>
            <a:ext cx="532764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765000"/>
            <a:ext cx="9144000" cy="5545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989000"/>
            <a:ext cx="9144000" cy="136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2781360"/>
            <a:ext cx="532764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581360"/>
            <a:ext cx="431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γαλάζιο ορθογώνιο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 υποδηλώνει τη δυνατότητα του χρήστη να μεταβαίνει από όλες τις σελίδες που περιλαμβάνονται μέσα σε αυτό στις εξής κατηγορίε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836640"/>
            <a:ext cx="115380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7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6200" y="547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8748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17656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4040" y="2060640"/>
            <a:ext cx="11541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ο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λ. Βενιζέ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5840" y="2060640"/>
            <a:ext cx="11541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ο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Ι. Μεταξά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1480" y="2060640"/>
            <a:ext cx="11541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ο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Θ. Πάγκα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1844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040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8800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260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645000"/>
            <a:ext cx="115416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4365720"/>
            <a:ext cx="11541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414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4940280"/>
            <a:ext cx="1152720" cy="649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940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516720" y="4939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5229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94036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5734080"/>
            <a:ext cx="1154160" cy="503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ελικ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35280" y="-36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028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197000"/>
            <a:ext cx="2448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το βέλος αυτό οδηγεί στ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6524640"/>
            <a:ext cx="64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γαλάζιο ορθογώνιο εμφανίζεται σε όλα τα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s 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ι στα προηγούμεν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907920"/>
            <a:ext cx="8675640" cy="5545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916280"/>
            <a:ext cx="8244000" cy="172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2971800"/>
            <a:ext cx="532764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1015920"/>
            <a:ext cx="115380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έ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92280"/>
            <a:ext cx="47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692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31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7656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2060640"/>
            <a:ext cx="115416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ή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Λόγος Ε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Βενιζέλ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1844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71636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3789360"/>
            <a:ext cx="115416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510080"/>
            <a:ext cx="11541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4292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5084640"/>
            <a:ext cx="1152720" cy="649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5084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516720" y="5084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537372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940360" y="53737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0360" y="5878440"/>
            <a:ext cx="1154160" cy="503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ελικ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4581360"/>
            <a:ext cx="431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γαλάζιο ορθογώνιο υποδηλώνει τη δυνατότητα του χρήστη να μεταβαίνει από όλες τις σελίδες που περιλαμβάνονται μέσα σε αυτό στις εξής κατηγορίε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8000" y="-3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0464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1197000"/>
            <a:ext cx="2448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το βέλος αυτό οδηγεί στ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060640"/>
            <a:ext cx="115380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ή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μερολόγι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Ι. Μεταξ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2060640"/>
            <a:ext cx="129852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ή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Συνθήκ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ης Λωζάνν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2:59:40Z</dcterms:created>
  <dc:creator>Μυροφόρα Ραφαηλίδου ΑΜ 5000110-Ειρήνη Γάκη ΑΜ 5000018</dc:creator>
  <dc:description/>
  <dc:language>en-US</dc:language>
  <cp:lastModifiedBy>Konstantina Vassilopoulou</cp:lastModifiedBy>
  <dcterms:modified xsi:type="dcterms:W3CDTF">2006-12-27T19:43:41Z</dcterms:modified>
  <cp:revision>77</cp:revision>
  <dc:subject>Διαδίκτυο και Εκπαίδευση-Θέμα: Ο Μεσοπόλεμος</dc:subject>
  <dc:title>Flowchart</dc:title>
</cp:coreProperties>
</file>